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4994-83E1-4EAB-805A-D425C213B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9409-E24B-4D01-AEEC-17D0B6B471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9CB5-CE3E-4300-AB3F-6E173D24F4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D920-7B09-439F-9C22-ED9E73DC76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08CC-00CB-4F4B-8D31-A167F41160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FAE1-BB90-43C8-A8BD-0C4A869174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3D7-82DA-4327-A038-25F08848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ED5-E8C7-4D17-8702-FC793AD9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89B96-22CB-4CE0-89DD-4455A68F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93101-EBDC-49E1-BDAE-AF4D1BB1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14E3A-A4D3-4C7E-8C8A-74CD6588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497427-901B-4CEB-88A8-FB6F4049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33A008-2CD2-44EE-9CF9-039695DB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54AFB-08B2-4138-BCA8-82AF5698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52891-2C8F-4D9B-9E9E-D90F8825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8124A-AE5F-4CCD-BE0C-467B7584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5BC10-4F6F-4998-8DD8-172D8145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49871A-18E2-445B-AD54-A243A556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367-5744-4E5C-8DE9-983088CD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17882-AE14-4678-BE51-725D64B5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91FEA6-31BC-4E15-A606-185E4164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32B0E-01A3-451F-8549-A14A8AC7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6211A-DCB8-45E9-9D8A-2600CDB6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03075-D5FF-48B4-9082-B9AB1CE1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E99274-0F6D-47C8-88C2-E81816F7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15AB7E-4DDD-4333-96AA-2CE10FF8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D6CB1-26F8-4B61-AE91-0A866E3C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239560-06E5-425C-9313-9228069F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FA42E2-5D78-4052-AB06-F7D21693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280-99FB-4C8A-A9FF-50F09B53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FFCAC3-2BF8-467D-9F83-FDCCC4EE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EDD199-0ED8-44EF-8DFC-DD7640DB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1A99A3-9729-488A-A71F-2591E984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7973AA-6976-45CC-A25B-4F1C43F4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166810-D3B9-4894-9016-0BB06283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285D4F-1145-4027-803A-BD1F80BE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A65A0B-6D13-4575-A35C-865788C5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44CAE0-445C-44BA-87AE-2E9B2647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C394F4-7ADF-4CEC-A00D-88D7EE7F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19AB1C-6FA0-48CE-8B6C-33B9F7EB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C000-D9FA-4CD0-BE26-367A1B01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269F7D-5270-47C9-AC7F-302FBA50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EA2676-7788-4678-AEAA-6A679254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16B684-805F-4C52-8C84-5F749D0D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B4C989-E614-479B-A57B-6773635C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EE586-7561-4502-B84F-896E9B9A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0C511-BC02-475F-BC69-EF6ADD67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3901E-E2A0-406C-9518-761B56F6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B20EF-6E95-491C-8AB1-8AF430E6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856665-3527-42A8-883D-6A3D7695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1C85CC-59E0-49B5-A3D0-DD45EC99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D2F7-06BB-4A0F-BA92-4C900E8A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C4B25C-633C-440D-8923-57FEE5CE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909A0-8565-484C-A98B-1558ECF7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3F3D7-538D-4369-B6EC-B2BCEAAE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39547-9571-457B-A7BF-9BD53E0D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51C468-F0D1-427A-98F3-12937A5E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D9F2A3-C3A3-409F-9F3C-DECD6400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5F67CF-70C0-4CDB-92B1-09DC9A1D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17638E1-C742-4CC8-A3C2-A574F551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62BD7C5-5D73-4876-BF93-D33E2765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18620A-4D59-4C4E-AEBE-7472BD62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AF7E-0FBF-474E-BBB4-9AF78553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72B13A-35B2-4658-8E22-36D2381D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A44BA0-012C-4B69-B27E-76CBAF11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D0BE78-A70E-4A37-A012-14363262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150E814-44BF-49B1-8F7A-C4D43075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AEC7D3-F391-4A70-A32B-562EE354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D2DDC9-F0EC-4CE9-8454-47305BEE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AAF18E-8415-4DA0-9735-68C8FB44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2CC13C-761F-4294-AB79-6E35CDFC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3FD9CD-8163-47C6-AA57-6E712925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DA8119-927F-45FB-AC56-54EC775C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0E39-6592-49C5-9F3E-DAD3F2AA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41265F6-A695-4577-8CCC-743C9A6A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38A324E-AD33-4A5D-9DBA-3136AE17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E09D584-7CD4-4D1E-B97F-9A983631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83C738C-95A5-4D61-B142-04260D71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5ED089A-3837-481D-986F-503E0523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CE486C-B8F4-41A3-AB9D-D1A9A8D8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6B84D9-B441-4555-86D0-595C31F0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6D76958-F901-4916-BE11-4753B09C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6D8B9A0-F520-4CE5-BA01-6C700F81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925CCD9-1B90-4102-B3C6-0BB98AE0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66BC-DE2D-43DF-A62A-237B9556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73A021-6644-4A93-BDED-DF36F77A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260A191-905E-4A86-91D4-326ABC9D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7D08901-48AF-4E44-9A94-B55BA580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09C16EB-3455-404A-9AC8-7A5DE145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424D5D4-7C50-48F4-BD7E-51A147C3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C1C4BE3-EEF7-4DF2-B8D9-FF50D77B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F1C47DA-3CC5-4AA3-9494-0C1F54AC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9721D01-884F-476E-8959-D8C54AC6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FD1152D-1637-48BB-9DF1-648FB25A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A77A37F-0C06-4441-8E17-9EA70005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F62A-DA02-4013-9E19-F7B692AF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47363CD-3BD4-431C-B21F-DBB04BEC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EAD6-9B22-407C-A819-F0E72B1D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AFF205-D5E5-4D95-9A62-837FE432E27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A1057A-8272-4DA4-A634-4F090D6A3C0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C27C1D-A5AC-4D66-8C52-20227F2DC85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F5712-2CB9-4B75-A7D6-7DF4D498EA6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F57B6B-65E7-4682-ABF9-BD3DF828878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C8BAE3-88B9-48E1-8587-470E4DB5E9D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E7367F-C59E-447C-8984-F42797024D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08CB-1351-442C-BC7D-2088F7D7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EFE0-B11D-4AA7-A652-83B9BC2F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4D17B2-F107-47DF-9A8E-A186C62B2B5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F89915-4CD6-4D9E-A73B-CA6539046E7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2C3E0-2052-4C6C-A570-180D4AD8822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A0B7D1-67A8-4B60-A4D9-6EC027C5D65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7053A7-736C-4627-90D1-DFA0C46EC4E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9139979-4215-4234-9805-4E66944B384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47B34E0-B82B-4683-AF68-AD573DFB149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8971DF9-0F97-4B9C-AB8C-E5B3BC25090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86DDAB4-7ED9-4C2B-86D0-BA470BF6EBB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059215A-C7D5-4E32-B51A-D9F056AB92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062E-457D-48CB-A457-E38F4BE7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85779B-22C5-4EFE-AF6B-D85099A870B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F8B9D89-6D2C-40E1-83CB-1709CE8F731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AE7CC0B-FFCA-4AFB-88A5-C0813A076A5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B1A4297-92DC-4326-B445-C562D5F85F4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27A348E-A6DE-4FCF-90D7-2AFA1A3304C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972719E-C7BE-41C2-99EA-261AD5D47A2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F6565AA-0F10-470F-A55F-0080D04F898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32820F-F129-4FDF-B485-9D82A99CD6C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6A9254-E7E2-4D26-BE41-06FDF264CB9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C73F6C9-C8FF-418F-ABE8-C4F1546C32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2BED-4B3D-44E0-9286-0A6B5C31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46FFDD-EB2B-459F-BB4D-F81AFC4067F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092B3F-8F57-4474-9B93-A08F48764A4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000386D-DEB8-4ACD-904B-D6FAF92843F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C4EB95-14BB-4066-886D-883DDF081E9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92F9198-E7DD-4209-A2E1-99E4F321027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15DDB8D-F6C0-41AC-9CD3-CB1DF662FE7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FB6E15C-40C0-4BDD-9780-6D071FD035A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9C1AEA-F8D9-4170-9B29-5996E3321A6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1C2BD0-0715-4FE2-A125-69D833A24A6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687BB7-228B-4E74-87DA-BBA3748BD7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1909-6C7F-4A61-BC5F-040AB03D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692AA6-BBAC-4E8E-9DFE-6D8AEB42CF6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B29208-8EA6-4BF0-80F0-BF6C03C35F9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9A6FFA-F7DD-4199-A9AB-417666252B0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860F0C-FDC1-43B0-921F-5090109DC6A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61992F-AE85-40B0-8052-B8DCD68D30F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8A1A94-2183-4F03-AB56-1EE2AFD7183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04F534-5F92-414F-BF2C-AC0BC409E60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E10A0A-B3E4-4859-B668-CBBDF8A4484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A93876-2EBE-475F-927D-39B39D4352D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6DADDB-146F-4437-B610-55DC86527A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EE7A-7780-40F1-91E3-402D5C7C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59340-EFCA-4835-9ABB-489C1E56B82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5333536-97F7-4DA6-8ABE-4A172049038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63929C3-5B66-4662-AFFE-BF2A26E18D4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94A6E53-5E11-4AF7-9410-98FD2696AA6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7BB559A-3DAD-44C4-BF09-B8C05A67F3D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E4FDBC9-8025-4443-93C8-B16AF35BFEF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9BFEE0D-B60D-4DCB-B4C6-CC42E7C8EC3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20030D2-F30B-436B-858A-4124B45B0A7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85DF7AF-6903-49C0-9788-F03053DE44C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734902B-1787-47FE-90B7-DA443B0EE1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3FCB4D-EC75-4AC2-B340-75C3B3DCB97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B116EBF-3F88-45BA-8894-3780A6EF27F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1962E88-FF31-418D-A461-0C751035BC9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03D3A8B-DF19-4B73-BD66-D123268026B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4374AE5-ECE9-4575-B3BB-6D4FE3DE3F2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F0E5E59-E619-4BA7-A0AA-68EBE0D8843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4B710A1-FE37-4314-B82F-3DC62CFD367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6D4EE0-3CC4-408B-8B86-AE8A77AE041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9B39EB3-9298-421A-9B08-31BC2BDBA55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ACC7541-DD3F-4779-B568-8554F417F89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F5E288A-B5F2-4C56-81E2-4BC74D4442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FC8814-851C-4DF8-8135-A6BD841F8BF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A2A4BB-A52E-4D24-BA75-457449554F7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FA56BBF-7A68-4445-AAED-FFF8E2C6C0F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98E48D-C281-463A-84E0-89C17704BFD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5514D41-AAE8-4539-A0D8-D061A7749E9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CE8EDFA-C64F-4217-AD95-A0D2F00C8AF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9CAA4F-B4BC-4A78-84C4-2BC5EADF337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902104-D5C1-4C9D-9970-268E1903C29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CEAE55-E790-469C-B9D2-3199E15538B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B16D2F-FFD8-40B4-9313-FC2F0635680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468EFF-F6BF-4D2C-B986-6406850C4E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6DF896-0967-4AE0-B2B1-591DBEA35A3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5041F7-7660-4F9C-A8DC-0D98DB9CDBA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1396A3-FA1C-48A7-AE1F-8E2A4702695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158034-3A52-497C-8F19-DB3B20921D0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EA8068-2F07-4599-97BC-9B1E6218FFD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873271-5F66-4E83-8004-1AC0F47CCB4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5ED442-ECBD-402B-9ED5-B5D85E93175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49D1F0-8653-4A97-99BE-F25DAD8355E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7054273-7CFF-4089-97AD-552C82A23D9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F888451-4489-4F7C-9D01-F6343839F76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D2BB6A8-F6F1-489E-A6F7-3C4D2D87F1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50137C-B848-4523-8A64-4614431C2B3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A03FB03-F4FD-41BC-9F14-E5DCEFC7F64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60DB6DD-DE1F-4323-8E41-9C421399078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62F88F6-27E4-42FF-9236-2DAD804A7D4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0AE77FA-3E5C-4C94-ACCF-73DE9ABEE98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4D20509-4FD7-4E4C-9DE8-0A9220A0CA3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606C1F5-71E9-42E1-8424-9372789B5C3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B2FB553-73FA-469E-8B7C-6C665DA75AC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A2A8C86-84C4-4AAC-A4CC-A31AD6A8F53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BD7AAC2-052C-445B-9ED6-2DC5DF59FE0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CC4F596-BEFF-4DA0-AA2C-F23A5958CF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BDD6E8-7DD4-4A9E-A905-3A2A68F1EF9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39C56B6-7630-4423-AC0E-17B9B8FB3EF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B63F12D-D55A-4C20-8DA6-6769E041EB1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795441D-B977-4F2B-A4FA-CA2FFDE52C0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E401A41-9157-4F6F-9EF2-CBAABB1F5B7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D891CAE-9C36-46E1-8C22-5EF5329FA03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2C93200-9F14-4DDB-9FE2-9B1365A27DB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57B0B7C-50A7-4942-8897-78F64C90AD5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2469A7A-6033-4A44-9071-77C0536FD05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90E386E-12E6-41A7-B98C-15F308EA5E1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D79ADFE-B915-4A56-AD0C-F1F6438B0B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559-7856-4773-937F-0DBAC5BF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A93B23-8925-42B6-A232-957D416F733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3A5DA61-1E0E-4ADE-A7DF-FAAB84D8272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8D2D59-5423-4D10-8B42-2048593A2A3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C87098-75BD-456F-8019-426376ACD18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49F764-675D-4900-A9F0-3BD887F6D29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B812AB-E18D-4624-8F2B-D79C847DCDC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5F91D2-8FF4-445E-BA2C-4F22C5709D5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CF95F-8E2B-463A-B34D-42157DB5414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B9849E-E03F-4FF4-AC25-A7C910A9FFF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30AEE1-BBAA-414F-A855-C0445CEF26E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F83BF2-F0E3-4A06-AF6E-2B9C2AC967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A9B150-EFC3-4141-A17E-1DECFB5B37E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64B152-76FD-4E3E-9AE1-9C3AA87CB4F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E51FE3-6463-473C-85A8-BB8405692FE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E8C4B8-09DB-4E0B-A1D9-46EE934A38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3F1D9E-F954-4FBA-8CF9-2EB33174ED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E23B5B-95A6-4EA2-908A-651B7B0EC1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145464-1DBF-4464-9D39-554C48B07B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B99E88-C3A6-41D7-AF5E-6839B28E34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255B09-6AC4-4827-B9E9-8A6D409963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F8DE2A-A77F-4021-A278-91F2F717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AD9132-0BF5-4317-8D46-3A1D5F06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75987C-CF53-4F20-8D0B-60E9B9E6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4EA-CDDC-417B-B4A9-FD992297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E1E7E0-0076-42CB-A7E9-22953864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201137-211C-4114-8E17-CEC5F2A1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0CF658-3BBC-481C-A968-203E5939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A9BE46-94BA-4CCC-8CA0-7F55DD8D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0240F9-DAEA-472E-8B73-8C220BFC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DF3473-EC6C-4BE0-83E6-B9A1EE54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53C92-D601-42A9-9D29-C8715F68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081625-0EAF-449C-9EB1-11230198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974716-F571-4DA4-BAE6-B187E6F8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ACC075-DD8C-4337-A0DB-10F71FFA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D96-EFBD-427D-81CD-AF9B6718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B97188-D9C5-4593-A9B7-6EA3CA4A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54E1E1-77DE-40C0-9CF7-AE291A05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50CBC1-548F-476A-8023-5C217765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F65C17-E370-4ED6-8CA7-1BB48662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125A62-C12E-48C9-98E0-18F4E1E1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BCB324-5AA7-494D-B671-193C6EA7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2CAC5C-3A57-4C3B-84E7-967EEA3C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7BCA8E-AB3C-46D3-A521-235E2466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6390AD-F458-4F2E-968E-28663623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843A18-8FCB-4DEB-9EFB-6620CA4E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1E9-DC21-40F2-8BC9-07A570ED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C2A005-56F5-4492-95E7-7DE3F80A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66749B-B87E-4618-AADF-2FC2D096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EEB6C3-5E7C-42D6-A6A7-5A40037E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0B1108-44CA-431F-8401-4045E688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A8122F-49DD-46F6-8495-692BBA57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C33529-B0F5-420D-95A7-D85823F1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510FDB-3B0A-41C8-BE98-09BC5F11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015BEC-FAB6-470D-B1DC-729F46F0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96BEE3-49DD-4FF5-B24C-97D93EA5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AE863E-89AA-4328-AEAF-83CC7FBF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BA25-82B6-4A7E-9FE3-889B8CB7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E32099-20A0-4B87-BFA2-454BACA5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F2A02F-B63B-472E-B2EF-C1744EE5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38BF1F-2E08-40EB-B47F-986367FD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3DEDEC-EE61-47BD-8993-97FC6FD5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601102-5948-4F10-A584-DE0FD379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09826D-F040-4919-987C-8A882C56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763D66-22B7-44D5-8583-7832E5B7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A44269-11A1-4E39-85FB-54ACAD92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DF3578-171D-4097-B0DE-94BABBA4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F52BF6-2C57-4AD9-AE65-804EC2DA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9B4-04B7-494E-A92C-6D8D20E0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32875C-2915-4BE0-8240-DC6C6FF0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69D3A0-5E8B-4E91-8C38-A147B9CD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68260E-CFBC-4A54-AE85-DBAAD2C1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29A4EC-A7B9-4B06-8986-5DF5B07C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F3126C-85A5-41E0-84A7-7641B18F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DAA433-A9ED-48B1-B2B3-CB539538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D36572-48E9-43F4-A79D-4E3362F2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12FC14-45CC-4960-9905-15496708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F91F18-4D67-4142-A649-7DDA6737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B37E09-1B3A-457C-80F0-AAD036B5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08B-49DF-44E0-94A3-323DD039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477CC8-8254-48EB-8B5B-354599D9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A41D3B-A385-4651-91C1-2BA9A3AE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A2D818-805C-49FF-AC7A-22937397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B51CD2-FFC0-40B8-9EA5-8609E09A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BCEDF8-3F34-4AE7-9B3E-B207CCC3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3C14DC-CC87-400F-A8DE-B95063BD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663054-1502-4E59-BACD-B1FE96A0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FFDF9-0DCB-47BA-A4B4-16D50FEA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EF9BE-FCEA-442A-8F0C-CD87AB56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8EA95-8AAD-4BF8-99FC-E1E6D712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0A0E-9F6A-4D89-9FB2-580C6426C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6826-ACDC-46ED-B862-F7AA6E910BD9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7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857F-BC6B-4FBB-B7DA-87A01579DD79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7227-5C1B-470D-9DE8-04262F7D60D3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0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1B62-6559-47C4-BC1B-A0146C14327C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55B0-1771-41B8-86C6-0D702726B311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3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4B1A-C1BE-4B21-9777-0350116D5896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5BFF-BF52-4364-AF3B-F1B3FFB927A4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6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5FDB-7F4A-451E-8910-A31BA8553BAF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E316-EDF6-44FE-9D61-7CCCC5EA22BA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9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7281-9400-4481-AA3D-9379B624746B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E1EE-F77C-4D0F-8585-B47CEFECFF63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4137-6517-42E2-B503-CF8A0E0B139E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623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6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627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Line 81"/>
            <p:cNvSpPr/>
            <p:nvPr/>
          </p:nvSpPr>
          <p:spPr>
            <a:xfrm flipV="1">
              <a:off x="838368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Oval 82"/>
            <p:cNvSpPr/>
            <p:nvPr/>
          </p:nvSpPr>
          <p:spPr>
            <a:xfrm rot="10800000">
              <a:off x="8307360" y="5029920"/>
              <a:ext cx="152640" cy="15192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0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4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2007-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Num" idx="45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B056-ECC7-4E19-9662-5FD130D5FAE4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sldNum" idx="46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71E8-BDDB-44FD-8AD1-9F7B463F3235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sldNum" idx="47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1783-9FD9-42AC-8629-2A78852F0B07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03CFC-E2CF-4B05-BE42-8D4FE5F0B00D}" type="datetime">
              <a:rPr b="0" lang="en-US" sz="1200" spc="-1" strike="noStrike">
                <a:solidFill>
                  <a:srgbClr val="ffffff"/>
                </a:solidFill>
                <a:latin typeface="News Gothic MT"/>
                <a:ea typeface="ＭＳ Ｐゴシック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EF148-F0D4-4EAE-914B-6F8BA1676D94}" type="slidenum">
              <a:rPr b="0" lang="en-US" sz="3600" spc="-1" strike="noStrike">
                <a:solidFill>
                  <a:srgbClr val="ffffff"/>
                </a:solidFill>
                <a:latin typeface="News Gothic MT"/>
                <a:ea typeface="ＭＳ Ｐゴシック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48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B4F9-4AC2-43D1-B7F3-858062593A53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sldNum" idx="49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44B7-4EFF-45C9-9A06-1D9A35EFC094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sldNum" idx="50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F191-6AC8-4D0A-A24F-6554A08B8DD4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sldNum" idx="5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990F-14DC-456E-A740-EABD48F0F7F4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sldNum" idx="52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3381-051C-4190-B5F0-96BABC1C39C1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sldNum" idx="53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7E1A-7F60-4986-AC4F-56CC65A44D34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sldNum" idx="54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21EE-90E3-44CE-97FC-446189555FB9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0F11-A733-4BCB-8E4F-87EA14A04640}" type="slidenum">
              <a:rPr b="1" lang="en-US" sz="12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3B9C-CAD2-4ADF-A312-BF728E8A7F1D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9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D94E-D84E-4CF0-A04C-7BA15D45CE52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2A1B-19F8-485D-8D2B-DB1975CC9210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1056-7FBE-40EB-A852-0F85B6F30D36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E6F2-5F82-448C-BDBE-E1EBB304D6C2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D57C-B43D-4112-9FF2-35A2D6BAC90D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DE37-BB55-425A-BFF3-973771504B1F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7BDD-A911-4FA6-8AA1-57C4D43D55FF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EBD1-C4E1-4BDB-861D-273563A9F7F5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1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7F41-9BAC-471D-B077-5E2987275D70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D434-106D-4EB7-82DB-1B0CA4472A58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4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570E-B02D-4F66-99A1-161615D12181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P Test Cel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ncentration of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rection of osmosis is determined by comparing total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solut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oncentra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pertonic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- more solute, less wat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potonic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- less solute, more wat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sotonic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- equal solute, equal wat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178" name="Group 4"/>
          <p:cNvGrpSpPr/>
          <p:nvPr/>
        </p:nvGrpSpPr>
        <p:grpSpPr>
          <a:xfrm>
            <a:off x="2008080" y="4356000"/>
            <a:ext cx="5181480" cy="1905120"/>
            <a:chOff x="2008080" y="4356000"/>
            <a:chExt cx="5181480" cy="1905120"/>
          </a:xfrm>
        </p:grpSpPr>
        <p:sp>
          <p:nvSpPr>
            <p:cNvPr id="1179" name="Rectangle 5"/>
            <p:cNvSpPr/>
            <p:nvPr/>
          </p:nvSpPr>
          <p:spPr>
            <a:xfrm>
              <a:off x="2008080" y="4432320"/>
              <a:ext cx="5181480" cy="1752480"/>
            </a:xfrm>
            <a:prstGeom prst="rect">
              <a:avLst/>
            </a:prstGeom>
            <a:solidFill>
              <a:srgbClr val="6f89f7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Line 6"/>
            <p:cNvSpPr/>
            <p:nvPr/>
          </p:nvSpPr>
          <p:spPr>
            <a:xfrm>
              <a:off x="4599000" y="4356000"/>
              <a:ext cx="0" cy="1905120"/>
            </a:xfrm>
            <a:prstGeom prst="line">
              <a:avLst/>
            </a:prstGeom>
            <a:ln w="5724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Text Box 7"/>
            <p:cNvSpPr/>
            <p:nvPr/>
          </p:nvSpPr>
          <p:spPr>
            <a:xfrm>
              <a:off x="2389320" y="572652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00"/>
                  </a:solidFill>
                  <a:latin typeface="Arial"/>
                  <a:ea typeface="ＭＳ Ｐゴシック"/>
                </a:rPr>
                <a:t>hypotoni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Text Box 8"/>
            <p:cNvSpPr/>
            <p:nvPr/>
          </p:nvSpPr>
          <p:spPr>
            <a:xfrm>
              <a:off x="5083200" y="5726520"/>
              <a:ext cx="17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00"/>
                  </a:solidFill>
                  <a:latin typeface="Arial"/>
                  <a:ea typeface="ＭＳ Ｐゴシック"/>
                </a:rPr>
                <a:t>hypertoni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Oval 9"/>
            <p:cNvSpPr/>
            <p:nvPr/>
          </p:nvSpPr>
          <p:spPr>
            <a:xfrm>
              <a:off x="2236680" y="46609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Oval 10"/>
            <p:cNvSpPr/>
            <p:nvPr/>
          </p:nvSpPr>
          <p:spPr>
            <a:xfrm>
              <a:off x="3074760" y="4736880"/>
              <a:ext cx="15264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Oval 11"/>
            <p:cNvSpPr/>
            <p:nvPr/>
          </p:nvSpPr>
          <p:spPr>
            <a:xfrm>
              <a:off x="2388960" y="5270400"/>
              <a:ext cx="15264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Oval 12"/>
            <p:cNvSpPr/>
            <p:nvPr/>
          </p:nvSpPr>
          <p:spPr>
            <a:xfrm>
              <a:off x="3227400" y="527040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Oval 13"/>
            <p:cNvSpPr/>
            <p:nvPr/>
          </p:nvSpPr>
          <p:spPr>
            <a:xfrm>
              <a:off x="3913200" y="542268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Oval 14"/>
            <p:cNvSpPr/>
            <p:nvPr/>
          </p:nvSpPr>
          <p:spPr>
            <a:xfrm>
              <a:off x="4903560" y="4660920"/>
              <a:ext cx="15264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Oval 15"/>
            <p:cNvSpPr/>
            <p:nvPr/>
          </p:nvSpPr>
          <p:spPr>
            <a:xfrm>
              <a:off x="5513400" y="46609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Oval 16"/>
            <p:cNvSpPr/>
            <p:nvPr/>
          </p:nvSpPr>
          <p:spPr>
            <a:xfrm>
              <a:off x="5132160" y="4889520"/>
              <a:ext cx="15264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Oval 17"/>
            <p:cNvSpPr/>
            <p:nvPr/>
          </p:nvSpPr>
          <p:spPr>
            <a:xfrm>
              <a:off x="5742000" y="519408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Oval 18"/>
            <p:cNvSpPr/>
            <p:nvPr/>
          </p:nvSpPr>
          <p:spPr>
            <a:xfrm>
              <a:off x="5894280" y="4889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Oval 19"/>
            <p:cNvSpPr/>
            <p:nvPr/>
          </p:nvSpPr>
          <p:spPr>
            <a:xfrm>
              <a:off x="5437080" y="5118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Oval 20"/>
            <p:cNvSpPr/>
            <p:nvPr/>
          </p:nvSpPr>
          <p:spPr>
            <a:xfrm>
              <a:off x="5056200" y="53467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Oval 21"/>
            <p:cNvSpPr/>
            <p:nvPr/>
          </p:nvSpPr>
          <p:spPr>
            <a:xfrm>
              <a:off x="5513400" y="542268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Oval 22"/>
            <p:cNvSpPr/>
            <p:nvPr/>
          </p:nvSpPr>
          <p:spPr>
            <a:xfrm>
              <a:off x="6122880" y="542268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Oval 23"/>
            <p:cNvSpPr/>
            <p:nvPr/>
          </p:nvSpPr>
          <p:spPr>
            <a:xfrm>
              <a:off x="6275160" y="5118120"/>
              <a:ext cx="15264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Oval 24"/>
            <p:cNvSpPr/>
            <p:nvPr/>
          </p:nvSpPr>
          <p:spPr>
            <a:xfrm>
              <a:off x="6199200" y="458460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Oval 25"/>
            <p:cNvSpPr/>
            <p:nvPr/>
          </p:nvSpPr>
          <p:spPr>
            <a:xfrm>
              <a:off x="6580080" y="473688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Oval 26"/>
            <p:cNvSpPr/>
            <p:nvPr/>
          </p:nvSpPr>
          <p:spPr>
            <a:xfrm>
              <a:off x="6732360" y="5194080"/>
              <a:ext cx="15264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1" name="Oval 27"/>
            <p:cNvSpPr/>
            <p:nvPr/>
          </p:nvSpPr>
          <p:spPr>
            <a:xfrm>
              <a:off x="6732360" y="5499000"/>
              <a:ext cx="15264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Oval 28"/>
            <p:cNvSpPr/>
            <p:nvPr/>
          </p:nvSpPr>
          <p:spPr>
            <a:xfrm>
              <a:off x="6885000" y="46609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Oval 29"/>
            <p:cNvSpPr/>
            <p:nvPr/>
          </p:nvSpPr>
          <p:spPr>
            <a:xfrm>
              <a:off x="3989160" y="4660920"/>
              <a:ext cx="15264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4" name="AutoShape 30"/>
          <p:cNvSpPr/>
          <p:nvPr/>
        </p:nvSpPr>
        <p:spPr>
          <a:xfrm>
            <a:off x="3913200" y="5041800"/>
            <a:ext cx="1447920" cy="533520"/>
          </a:xfrm>
          <a:prstGeom prst="rightArrow">
            <a:avLst>
              <a:gd name="adj1" fmla="val 50000"/>
              <a:gd name="adj2" fmla="val 67848"/>
            </a:avLst>
          </a:prstGeom>
          <a:solidFill>
            <a:srgbClr val="0f11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 Box 32"/>
          <p:cNvSpPr/>
          <p:nvPr/>
        </p:nvSpPr>
        <p:spPr>
          <a:xfrm>
            <a:off x="2860920" y="618372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  <a:ea typeface="ＭＳ Ｐゴシック"/>
              </a:rPr>
              <a:t>net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 movement of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asic Defini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549360" y="1599840"/>
            <a:ext cx="4022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0" lang="en-US" sz="2000" spc="-1" strike="noStrike" u="sng">
                <a:solidFill>
                  <a:srgbClr val="595959"/>
                </a:solidFill>
                <a:uFillTx/>
                <a:latin typeface="News Gothic MT"/>
              </a:rPr>
              <a:t>cell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is the basic unit of life.  All living things are made of cells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nside cells are </a:t>
            </a:r>
            <a:r>
              <a:rPr b="0" lang="en-US" sz="2000" spc="-1" strike="noStrike" u="sng">
                <a:solidFill>
                  <a:srgbClr val="595959"/>
                </a:solidFill>
                <a:uFillTx/>
                <a:latin typeface="News Gothic MT"/>
              </a:rPr>
              <a:t>organelles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, which are small, membrane bound structures that have specific jobs.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Cells are small because nutrients and water must be able to get to all parts of the cell (higher surface area to volume ratio with smaller cells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31" name="Picture 3" descr=""/>
          <p:cNvPicPr/>
          <p:nvPr/>
        </p:nvPicPr>
        <p:blipFill>
          <a:blip r:embed="rId1"/>
          <a:stretch/>
        </p:blipFill>
        <p:spPr>
          <a:xfrm>
            <a:off x="4718160" y="1511280"/>
            <a:ext cx="2225520" cy="26892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4" descr=""/>
          <p:cNvPicPr/>
          <p:nvPr/>
        </p:nvPicPr>
        <p:blipFill>
          <a:blip r:embed="rId2"/>
          <a:stretch/>
        </p:blipFill>
        <p:spPr>
          <a:xfrm>
            <a:off x="5065560" y="4267080"/>
            <a:ext cx="400212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ukaryotic vs. Prokaryotic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549360" y="1599840"/>
            <a:ext cx="5775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0" lang="en-US" sz="2400" spc="-1" strike="noStrike" u="sng">
                <a:solidFill>
                  <a:srgbClr val="595959"/>
                </a:solidFill>
                <a:uFillTx/>
                <a:latin typeface="News Gothic MT"/>
              </a:rPr>
              <a:t>prokaryotic cell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does NOT have a nucleus or membrane bound organelles.  It is small and simple, having only cytoplasm (fluid) and ribosomes (organelles that make protein). Bacteria are prokaryotic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0" lang="en-US" sz="2400" spc="-1" strike="noStrike" u="sng">
                <a:solidFill>
                  <a:srgbClr val="595959"/>
                </a:solidFill>
                <a:uFillTx/>
                <a:latin typeface="News Gothic MT"/>
              </a:rPr>
              <a:t>eukaryotic cell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DOES have a nucleus and organelles.  They are larger and more complex, and include plants and animal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35" name="Picture 3" descr=""/>
          <p:cNvPicPr/>
          <p:nvPr/>
        </p:nvPicPr>
        <p:blipFill>
          <a:blip r:embed="rId1"/>
          <a:stretch/>
        </p:blipFill>
        <p:spPr>
          <a:xfrm>
            <a:off x="6324480" y="1444680"/>
            <a:ext cx="2151360" cy="17906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4" descr=""/>
          <p:cNvPicPr/>
          <p:nvPr/>
        </p:nvPicPr>
        <p:blipFill>
          <a:blip r:embed="rId2"/>
          <a:stretch/>
        </p:blipFill>
        <p:spPr>
          <a:xfrm>
            <a:off x="6278400" y="3657600"/>
            <a:ext cx="24926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4" descr="http://media.showme.com/files/69170/pictures/thumbs/213698/first_thumb1336095212.jpg"/>
          <p:cNvPicPr/>
          <p:nvPr/>
        </p:nvPicPr>
        <p:blipFill>
          <a:blip r:embed="rId1"/>
          <a:stretch/>
        </p:blipFill>
        <p:spPr>
          <a:xfrm>
            <a:off x="112680" y="1295280"/>
            <a:ext cx="8817120" cy="661032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2c7c9f"/>
                </a:solidFill>
                <a:latin typeface="News Gothic MT"/>
              </a:rPr>
              <a:t>Animal vs Plant Cel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view of the Endomembrane System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40" name="Content Placeholder 3" descr="Untitled.png"/>
          <p:cNvPicPr/>
          <p:nvPr/>
        </p:nvPicPr>
        <p:blipFill>
          <a:blip r:embed="rId1"/>
          <a:stretch/>
        </p:blipFill>
        <p:spPr>
          <a:xfrm>
            <a:off x="1066680" y="1447920"/>
            <a:ext cx="7007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42" name="Picture 5" descr="06_02b"/>
          <p:cNvPicPr/>
          <p:nvPr/>
        </p:nvPicPr>
        <p:blipFill>
          <a:blip r:embed="rId1"/>
          <a:srcRect l="15000" t="22500" r="24000" b="29251"/>
          <a:stretch/>
        </p:blipFill>
        <p:spPr>
          <a:xfrm>
            <a:off x="4946760" y="620640"/>
            <a:ext cx="4195800" cy="4427640"/>
          </a:xfrm>
          <a:prstGeom prst="rect">
            <a:avLst/>
          </a:prstGeom>
          <a:ln w="0">
            <a:noFill/>
          </a:ln>
        </p:spPr>
      </p:pic>
      <p:sp>
        <p:nvSpPr>
          <p:cNvPr id="1143" name="Rectangle 6"/>
          <p:cNvSpPr/>
          <p:nvPr/>
        </p:nvSpPr>
        <p:spPr>
          <a:xfrm>
            <a:off x="6386760" y="2863800"/>
            <a:ext cx="14821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tty aci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7"/>
          <p:cNvSpPr/>
          <p:nvPr/>
        </p:nvSpPr>
        <p:spPr>
          <a:xfrm>
            <a:off x="6283440" y="703440"/>
            <a:ext cx="16221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osph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5" name="Picture 9" descr=""/>
          <p:cNvPicPr/>
          <p:nvPr/>
        </p:nvPicPr>
        <p:blipFill>
          <a:blip r:embed="rId2"/>
          <a:srcRect l="29604" t="49203" r="1060" b="7200"/>
          <a:stretch/>
        </p:blipFill>
        <p:spPr>
          <a:xfrm>
            <a:off x="519120" y="4348080"/>
            <a:ext cx="4235400" cy="2344680"/>
          </a:xfrm>
          <a:prstGeom prst="rect">
            <a:avLst/>
          </a:prstGeom>
          <a:ln w="0">
            <a:noFill/>
          </a:ln>
        </p:spPr>
      </p:pic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76440" y="1371240"/>
            <a:ext cx="4967280" cy="28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Phosphat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head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drophilic and polar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Fatty acid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tail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drophobic and non pola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rranged as a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bilay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47" name="Picture 13" descr="penguinL"/>
          <p:cNvPicPr/>
          <p:nvPr/>
        </p:nvPicPr>
        <p:blipFill>
          <a:blip r:embed="rId3"/>
          <a:stretch/>
        </p:blipFill>
        <p:spPr>
          <a:xfrm>
            <a:off x="7772400" y="548964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148" name="AutoShape 14"/>
          <p:cNvSpPr/>
          <p:nvPr/>
        </p:nvSpPr>
        <p:spPr>
          <a:xfrm>
            <a:off x="4937040" y="5153040"/>
            <a:ext cx="2433600" cy="1365120"/>
          </a:xfrm>
          <a:prstGeom prst="wedgeEllipseCallout">
            <a:avLst>
              <a:gd name="adj1" fmla="val 75050"/>
              <a:gd name="adj2" fmla="val 46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aaah,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one of thos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structure–fun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AutoShape 15"/>
          <p:cNvSpPr/>
          <p:nvPr/>
        </p:nvSpPr>
        <p:spPr>
          <a:xfrm>
            <a:off x="5846040" y="3804480"/>
            <a:ext cx="2368080" cy="3376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pelled by water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AutoShape 16"/>
          <p:cNvSpPr/>
          <p:nvPr/>
        </p:nvSpPr>
        <p:spPr>
          <a:xfrm>
            <a:off x="5862240" y="1301040"/>
            <a:ext cx="2413800" cy="3376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ttracted to water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Picture 2" descr=""/>
          <p:cNvPicPr/>
          <p:nvPr/>
        </p:nvPicPr>
        <p:blipFill>
          <a:blip r:embed="rId1"/>
          <a:srcRect l="29604" t="49203" r="1060" b="7200"/>
          <a:stretch/>
        </p:blipFill>
        <p:spPr>
          <a:xfrm>
            <a:off x="152280" y="4114800"/>
            <a:ext cx="4235400" cy="234468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3" descr=""/>
          <p:cNvPicPr/>
          <p:nvPr/>
        </p:nvPicPr>
        <p:blipFill>
          <a:blip r:embed="rId2"/>
          <a:srcRect l="30131" t="49203" r="1060" b="7200"/>
          <a:stretch/>
        </p:blipFill>
        <p:spPr>
          <a:xfrm>
            <a:off x="2370240" y="4114800"/>
            <a:ext cx="4203720" cy="2344680"/>
          </a:xfrm>
          <a:prstGeom prst="rect">
            <a:avLst/>
          </a:prstGeom>
          <a:ln w="0">
            <a:noFill/>
          </a:ln>
        </p:spPr>
      </p:pic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ermeability to polar molecule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722160" y="1371600"/>
            <a:ext cx="79646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5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Membrane becomes semi-permeable via protein channel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pecific channels allow polar substances like water, ions, and sugars across cell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55" name="Rectangle 6"/>
          <p:cNvSpPr/>
          <p:nvPr/>
        </p:nvSpPr>
        <p:spPr>
          <a:xfrm>
            <a:off x="152280" y="3854160"/>
            <a:ext cx="6400800" cy="368280"/>
          </a:xfrm>
          <a:prstGeom prst="rect">
            <a:avLst/>
          </a:prstGeom>
          <a:solidFill>
            <a:srgbClr val="98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inside c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7"/>
          <p:cNvSpPr/>
          <p:nvPr/>
        </p:nvSpPr>
        <p:spPr>
          <a:xfrm>
            <a:off x="152280" y="6292800"/>
            <a:ext cx="6400800" cy="368280"/>
          </a:xfrm>
          <a:prstGeom prst="rect">
            <a:avLst/>
          </a:prstGeom>
          <a:solidFill>
            <a:srgbClr val="98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outside c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Rectangle 8"/>
          <p:cNvSpPr/>
          <p:nvPr/>
        </p:nvSpPr>
        <p:spPr>
          <a:xfrm>
            <a:off x="6524640" y="3657600"/>
            <a:ext cx="38088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AutoShape 9"/>
          <p:cNvSpPr/>
          <p:nvPr/>
        </p:nvSpPr>
        <p:spPr>
          <a:xfrm>
            <a:off x="5448240" y="3809880"/>
            <a:ext cx="533520" cy="533520"/>
          </a:xfrm>
          <a:prstGeom prst="octagon">
            <a:avLst>
              <a:gd name="adj" fmla="val 29287"/>
            </a:avLst>
          </a:prstGeom>
          <a:solidFill>
            <a:srgbClr val="c0ff1d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AutoShape 10"/>
          <p:cNvSpPr/>
          <p:nvPr/>
        </p:nvSpPr>
        <p:spPr>
          <a:xfrm>
            <a:off x="4152960" y="3809880"/>
            <a:ext cx="533520" cy="533520"/>
          </a:xfrm>
          <a:custGeom>
            <a:avLst/>
            <a:gdLst>
              <a:gd name="textAreaLeft" fmla="*/ 62640 w 533520"/>
              <a:gd name="textAreaRight" fmla="*/ 470880 w 533520"/>
              <a:gd name="textAreaTop" fmla="*/ 62640 h 533520"/>
              <a:gd name="textAreaBottom" fmla="*/ 470880 h 533520"/>
            </a:gdLst>
            <a:ahLst/>
            <a:rect l="textAreaLeft" t="textAreaTop" r="textAreaRight" b="textAreaBottom"/>
            <a:pathLst>
              <a:path w="216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00" y="2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660066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Oval 11"/>
          <p:cNvSpPr/>
          <p:nvPr/>
        </p:nvSpPr>
        <p:spPr>
          <a:xfrm>
            <a:off x="2857680" y="3809880"/>
            <a:ext cx="533160" cy="533520"/>
          </a:xfrm>
          <a:prstGeom prst="ellipse">
            <a:avLst/>
          </a:prstGeom>
          <a:solidFill>
            <a:srgbClr val="0f116a"/>
          </a:solidFill>
          <a:ln w="9360">
            <a:solidFill>
              <a:srgbClr val="1a15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AutoShape 12"/>
          <p:cNvSpPr/>
          <p:nvPr/>
        </p:nvSpPr>
        <p:spPr>
          <a:xfrm>
            <a:off x="1638360" y="6172200"/>
            <a:ext cx="533520" cy="533520"/>
          </a:xfrm>
          <a:prstGeom prst="diamond">
            <a:avLst/>
          </a:prstGeom>
          <a:solidFill>
            <a:srgbClr val="b7c1eb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AutoShape 13"/>
          <p:cNvSpPr/>
          <p:nvPr/>
        </p:nvSpPr>
        <p:spPr>
          <a:xfrm>
            <a:off x="2743200" y="4419720"/>
            <a:ext cx="762120" cy="1752480"/>
          </a:xfrm>
          <a:prstGeom prst="flowChartMagneticDisk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AutoShape 14"/>
          <p:cNvSpPr/>
          <p:nvPr/>
        </p:nvSpPr>
        <p:spPr>
          <a:xfrm>
            <a:off x="4038480" y="4419720"/>
            <a:ext cx="762120" cy="1752480"/>
          </a:xfrm>
          <a:prstGeom prst="flowChartMagneticDisk">
            <a:avLst/>
          </a:prstGeom>
          <a:solidFill>
            <a:srgbClr val="ffa3d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AutoShape 15"/>
          <p:cNvSpPr/>
          <p:nvPr/>
        </p:nvSpPr>
        <p:spPr>
          <a:xfrm>
            <a:off x="5334120" y="4419720"/>
            <a:ext cx="761760" cy="1752480"/>
          </a:xfrm>
          <a:prstGeom prst="flowChartMagneticDisk">
            <a:avLst/>
          </a:prstGeom>
          <a:solidFill>
            <a:srgbClr val="c0ff1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Rectangle 16"/>
          <p:cNvSpPr/>
          <p:nvPr/>
        </p:nvSpPr>
        <p:spPr>
          <a:xfrm>
            <a:off x="0" y="3809880"/>
            <a:ext cx="22860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AutoShape 17"/>
          <p:cNvSpPr/>
          <p:nvPr/>
        </p:nvSpPr>
        <p:spPr>
          <a:xfrm>
            <a:off x="1523880" y="4419720"/>
            <a:ext cx="762120" cy="1752480"/>
          </a:xfrm>
          <a:prstGeom prst="flowChartMagneticDisk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AutoShape 18"/>
          <p:cNvSpPr/>
          <p:nvPr/>
        </p:nvSpPr>
        <p:spPr>
          <a:xfrm>
            <a:off x="380880" y="4419720"/>
            <a:ext cx="762120" cy="1752480"/>
          </a:xfrm>
          <a:prstGeom prst="flowChartMagneticDisk">
            <a:avLst/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AutoShape 19"/>
          <p:cNvSpPr/>
          <p:nvPr/>
        </p:nvSpPr>
        <p:spPr>
          <a:xfrm>
            <a:off x="533520" y="6248520"/>
            <a:ext cx="457200" cy="457200"/>
          </a:xfrm>
          <a:prstGeom prst="pie">
            <a:avLst/>
          </a:prstGeom>
          <a:solidFill>
            <a:srgbClr val="ffea18"/>
          </a:solidFill>
          <a:ln w="19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9" name="Picture 20" descr=""/>
          <p:cNvPicPr/>
          <p:nvPr/>
        </p:nvPicPr>
        <p:blipFill>
          <a:blip r:embed="rId3"/>
          <a:srcRect l="10345" t="1197" r="10345" b="3597"/>
          <a:stretch/>
        </p:blipFill>
        <p:spPr>
          <a:xfrm>
            <a:off x="6599160" y="3967200"/>
            <a:ext cx="2403720" cy="2487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tting through cell membran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Passive Transpor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imple diffus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iffusion of nonpolar, hydrophobic molecul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lipids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HIGH </a:t>
            </a:r>
            <a:r>
              <a:rPr b="1" lang="en-US" sz="1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 LOW concentration gradient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acilitated transport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iffusion of polar, hydrophilic molecul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hrough a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protein chann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HIGH </a:t>
            </a:r>
            <a:r>
              <a:rPr b="1" lang="en-US" sz="1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 LOW concentration gradient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ctive transpor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iffusion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against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concentration gradient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OW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HIG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uses a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ein pum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equires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72" name="AutoShape 4"/>
          <p:cNvSpPr/>
          <p:nvPr/>
        </p:nvSpPr>
        <p:spPr>
          <a:xfrm>
            <a:off x="5638680" y="5334120"/>
            <a:ext cx="1295640" cy="1295280"/>
          </a:xfrm>
          <a:prstGeom prst="irregularSeal1">
            <a:avLst/>
          </a:prstGeom>
          <a:solidFill>
            <a:srgbClr val="ed001d"/>
          </a:solidFill>
          <a:ln w="3816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5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smosis is just diffusion of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ter is very important to life,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e talk about water separatel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ffusion of water from </a:t>
            </a:r>
            <a:br>
              <a:rPr sz="3000"/>
            </a:b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HIGH concentratio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of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water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to </a:t>
            </a:r>
            <a:br>
              <a:rPr sz="3000"/>
            </a:b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LOW concentratio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of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wat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cross a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mi-permeable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7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952880" y="3857760"/>
            <a:ext cx="4038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20:50:07Z</dcterms:created>
  <dc:creator>Allison Magee</dc:creator>
  <dc:description/>
  <dc:language>en-US</dc:language>
  <cp:lastModifiedBy>Allison Magee</cp:lastModifiedBy>
  <dcterms:modified xsi:type="dcterms:W3CDTF">2015-04-07T21:35:03Z</dcterms:modified>
  <cp:revision>3</cp:revision>
  <dc:subject/>
  <dc:title>AP Test Cell Review</dc:title>
</cp:coreProperties>
</file>